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31D-7EF4-4180-BDCD-C13DB765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4E5-F8D9-45ED-9645-5A0FCAA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4A4-D952-4BE2-9308-7626A7A2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6AA-6A39-4033-8C4E-C9466459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4EE4-6B0D-4F45-8100-61D4BF1F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39A-20AD-493B-97D5-B08B7ED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B24-DE2A-412E-8363-6B24612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FE7E-084E-4C46-B25C-140F9F0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50B0-E4E6-446C-B349-AE193011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FB5-2F34-4DFB-AB27-0B16478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5E75-76E4-444A-AA2F-7918BF4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816-22E7-44E8-9B30-D953E778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85ED-090E-437D-AEE0-67DF153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77B-E8BC-451D-8435-DDF95FD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8FD3-0FE4-41B1-971F-A56C683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7D55-D08C-4827-9951-3D4CD10F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BF7C-0C03-4E46-B818-2A81A8CC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5F6-B9B6-4C8B-A009-50BCC123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EB0-2CB8-47AD-A661-29AC233C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0E9-5A09-4407-BD32-FAECD3BB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488-8544-496E-8095-75F33EA3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DB5-817E-4992-B2CF-DCBC336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6A3-6213-4BAE-8C5B-D85D9BF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DAB-9D8D-43E5-A52C-242FB8ED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428-28EE-4E5A-BD9C-148D646B9F2B}" type="slidenum"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5F2E-2068-407B-8DFB-A10A7E51B525}" type="slidenum">
              <a:rPr b="0" lang="ja-JP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3366"/>
                </a:solidFill>
                <a:latin typeface="Times New Roman"/>
                <a:ea typeface="HGS創英角ｺﾞｼｯｸUB"/>
              </a:rPr>
              <a:t>基準創造行動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．自己開発の原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Ⅱ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．気づきと挨拶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Ⅲ 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．早起きと認識即行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Ⅳ 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．約束と計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Ⅴ 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．報告・連絡・相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Ⅵ 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．整理・整頓・清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27432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3366"/>
                </a:solidFill>
                <a:latin typeface="Century"/>
                <a:ea typeface="ＭＳ 明朝"/>
              </a:rPr>
              <a:t>Ⅱ</a:t>
            </a:r>
            <a:r>
              <a:rPr b="0" lang="ja-JP" sz="5400" spc="-1" strike="noStrike">
                <a:solidFill>
                  <a:srgbClr val="003366"/>
                </a:solidFill>
                <a:latin typeface="Century"/>
                <a:ea typeface="ＭＳ 明朝"/>
              </a:rPr>
              <a:t>　気づきと挨拶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253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Ⅱ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１　挨拶の意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人間は一人では生きていけません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相手の存在を認め重んずる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挨拶の字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挨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アイ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)……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開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拶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サツ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)……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迫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心を開いて相手に迫ってい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つまり積極的にあいてを信頼してい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7924680" y="37339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7315200" y="37339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Ⅱ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２　挨拶の目的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周りとの意思疎通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イシソツウ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を高め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信頼関係を築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生かされ，生きていることを認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相手の存在価値を認め，感謝の心を表す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Ⅱ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３　挨拶の効用　信頼関係の形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相手を認めることで自分をアピー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自分自身を認めてもら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ここに信頼関係が生まれ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人間関係を改善することができま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職場内での活発な挨拶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明るい環境を作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人間関係をよりよくす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一人一人の働きを高めていくものです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Ⅱ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４　挨拶の効用　外部からの印象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訪問者 来客者等に最も重要な印象を与え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企業の評価につなが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社員同士の挨拶から与える印象も大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子供の評価は「挨拶が良くできる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その後の間関係も良くなってくるはずです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会社の顔と信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得意先は，営業マン等の挨拶から会社を判断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8077320" y="297180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7543800" y="297180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Ⅱ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５　形は心を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ツク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り 心は形を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ツク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る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最初は形式的な挨拶でも先ず実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正しい形を実行し続けることによって心が創られ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形が伴わないと相手に認めてもらえな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正しい心と正しい形で実践する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Ⅱ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６　挨拶の実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【あ】かるく。元気が一番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【い】つも。誰にでも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【さ】きに。積極的に。進んで。喜ん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【つ】づける。継続することで良い習慣が定着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Ⅲ</a:t>
            </a:r>
            <a:r>
              <a:rPr b="0" lang="ja-JP" sz="5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　早起きと　　　　　　認識即行動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197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Ⅲ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１　早起きと認識即行動の意義－１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己管理は時間管理か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己管理能力は，上に立つ人の大切な要件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上役だけでなく父親，母親にも必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現代社会は時間管理が大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時間を管理できると自分のわがままをコントロール可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これを自己管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己管理→部下管理，子供たちの指導・育成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077320" y="44956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7543800" y="44956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 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Ⅲ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１　早起きと認識即行動の意義－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時間管理の前提は一日のスタート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めの起床と早めの出勤か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然のリズムにあった生活が大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積極性は早起きか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起きができると積極的つ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起きができると行動力つ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起きができると自己管理ができ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起きの実践で自己管理をマスタ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起きの実践で時間管理をマスター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１ 自己開発の意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組織の３要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共通目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意思疎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意欲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動機</a:t>
            </a: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379760" y="2819520"/>
            <a:ext cx="2171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Ⅲ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２　早起きと認識即行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行動力を高め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朝の目覚めは認識即行動力の元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(5)</a:t>
            </a:r>
            <a:r>
              <a:rPr b="1" lang="ja-JP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  </a:t>
            </a: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目覚めが悪いと後手</a:t>
            </a: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ゴテ</a:t>
            </a: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に回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目覚めても起きず＝気づいても実行しな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感応力が鈍くなる＝いつも先手をとられ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目覚たらすぐ起きる＝気づいたらすぐ実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感応力が良くなる＝先手をと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“</a:t>
            </a: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思いたったら吉日”＝すぐは最高のチャン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46483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previousslide"/>
          </p:cNvPr>
          <p:cNvSpPr/>
          <p:nvPr/>
        </p:nvSpPr>
        <p:spPr>
          <a:xfrm>
            <a:off x="7772400" y="46483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Ⅲ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３　認識即行動  “すぐに実行する”は信頼の基礎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アトデは効率がわる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メモが必要　忘れることもたびた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思い出すにも時間がかか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おまけに，仕事をしても悪く言われる！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後回しにした瞬間評価は低い　生も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後でやった仕事は起こられ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分も苦手なので成果も低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やり直しも聞かな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あんなに頼んだのに，やってくれない」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すぐにした仕事は信頼が，後では怒り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8229600" y="44197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7696080" y="44197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Ⅲ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４　早起きと正しい睡眠の取り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睡眠の働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早起きの習慣は上手な睡眠が大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睡眠の機能‥‥‥脳の疲労回復です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正しい睡眠の取り方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睡眠は長さではなく深さが大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午後１１時に休めば４時間</a:t>
            </a: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O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人間の基礎体温が最低になるのは午前１～２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２時間前の１１時に寝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夜の時間を朝に回す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5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　約束と計画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7656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１　約束の意義－１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人は一人で生きているのではない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家庭においては，両親，妻，子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取引先は，得意先，仕入先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職場においては，社長，上司，同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友人知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集団のなかで生き生かされてい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0773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75438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１　約束の意義－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集団社会維持の要件＝約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約束を破り続ける→人でなし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約束を守り続ける→信頼される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信頼される人→仕事が任される→成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どちらを選びますか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２　きめごと－１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然のきめご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然には自然の法則（自然律＝自然の決め事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天体の運行，四季，昼夜のめぐ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火や水の役割など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２　きめごと－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人間としての正しい生き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然律の中に生命活動の法則（生活律）があ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これらの法則に人間が自ら従う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(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律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)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という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自らを律する人間としての正しい生き方の基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7772400" y="56386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7238880" y="56419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２　きめごと－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人と人とのきめご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大自然のきめごとは，破った人が不幸になります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人間同士の約束の場合は，破った方だけではなく，破られた相手方も不幸にな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約束を破ることは，結果的に他人だけでなく，自分も不幸にな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7543800" y="56419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３　計画の意義と計画の立て方－１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多くの決め事の優先順位をつける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奥さん，子供さん，友人・知人との約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会社では納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多くの決め事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(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約束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)</a:t>
            </a: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があ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どれをどうするの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２ 相互信頼と帰属意識が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自己の長所 短所が周りに及ぼす影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自分は何の為に働いているの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これを自己客観化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３　計画の意義と計画の立て方－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計画と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約束に優先順位を付す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段取り，方法，手順等書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一覧表を計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計画とは，約束を守るための方法を決定するこ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３　計画の意義と計画の立て方－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手帳に書く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話は主観的で抽象的→実行できな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具体的で実践可能に→書くというこ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書くことで具体化され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聞くと⇔話す　読む⇔書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まず聞く，読む　次は　話す　書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聞く，読む　は受け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話す，書く　明確な強い意思が必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４　計画は将来の希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思い希望→計画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計画→実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実行→成果（かなり失敗するが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成果→豊か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豊かさ→良い人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Ⅳ</a:t>
            </a:r>
            <a:r>
              <a:rPr b="0" lang="ja-JP" sz="4400" spc="-1" strike="noStrike">
                <a:solidFill>
                  <a:srgbClr val="003366"/>
                </a:solidFill>
                <a:latin typeface="ＭＳ 明朝"/>
                <a:ea typeface="ＭＳ 明朝"/>
              </a:rPr>
              <a:t>－５　約束と計画の実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手帳に書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ノートに書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パソコンで入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思いを形にす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ひたすら書きまく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5400" spc="-1" strike="noStrike">
                <a:solidFill>
                  <a:srgbClr val="003366"/>
                </a:solidFill>
                <a:latin typeface="Century"/>
                <a:ea typeface="ＭＳ 明朝"/>
              </a:rPr>
              <a:t>　報告・連絡・相談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590920" y="2517840"/>
            <a:ext cx="38862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1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　報告・連絡・相談の３つの目的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根本につなが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人財育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コミュニケーション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明朝"/>
              </a:rPr>
              <a:t>－２　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根本につながる－１　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明朝"/>
              </a:rPr>
              <a:t>組織につなが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組織の中心者は社長，上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家庭では父親，母親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これに従い，つながった時，仕事は成就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反した時に失敗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つながるということは常に報告す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進んで指示を受けるということです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「個」の発想ではなく「組織」を動かす要件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8229600" y="39625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7696080" y="39625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明朝"/>
              </a:rPr>
              <a:t>－２　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根本につながる－２　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明朝"/>
              </a:rPr>
              <a:t>管理者の報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管理者は報告し，報告を受けることが大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適切な指示を受け，指示を出せ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報告と指示が組織を動か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管理者に報告がこないのは，管理者側にも問題あり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家庭の場合は，報告という形をとらず日常的な会話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楽しいコミュニケーションをとっていない，親の問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nextslide"/>
          </p:cNvPr>
          <p:cNvSpPr/>
          <p:nvPr/>
        </p:nvSpPr>
        <p:spPr>
          <a:xfrm>
            <a:off x="8381880" y="58672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previousslide"/>
          </p:cNvPr>
          <p:cNvSpPr/>
          <p:nvPr/>
        </p:nvSpPr>
        <p:spPr>
          <a:xfrm>
            <a:off x="7848720" y="58705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３　人財育成－１　報告を受けながら人財育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報告をし，報告を受けることが人財育成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人は潜在的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センザイテキ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に話をした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聞き上手は話上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良好なコミュニケーションの前提が聞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積極的に話しを聞き，話しの方向を上手に導くことが教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報告をしてもらうという気持ちが大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人は話やすい人に話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業務命令ではなく，相手の身になって聞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8458200" y="51055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7924680" y="51055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３　人財育成－２　報告と後始末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後始末の悪い人の仕事はどれもこれも中途半端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完成しないうちに，手をだすか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一つ，一つ，片づけ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「仕事が終わったらまず報告をする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これが後始末＝仕事のケジメ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ケジメをつけまた指示＝人材教育そのもの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381880" y="56386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7848720" y="56419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３ 自己開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自己の心を見直し客観化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良いものは伸ばし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悪いものは改善し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家庭企業のために貢献できる自分を創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４　コミュニケーション－１　組織は組み合わ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１人＋１人＋１人＝２人「赤字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１人＋１人＋１人＝３人「利益 ０ 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１人＋１人＋１人＝４人「黒字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上手に足し算，掛け算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４　コミュニケーション－１　上手に組み合わ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人は生まれたことに意味があ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長所を見つけ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上手に組み合わせ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皆尖ってい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中小企業は尖った人の集団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報告を受けながら人材を育成す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153280" y="56386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previousslide"/>
          </p:cNvPr>
          <p:cNvSpPr/>
          <p:nvPr/>
        </p:nvSpPr>
        <p:spPr>
          <a:xfrm>
            <a:off x="7620120" y="564192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５　連絡はワカルこ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解る＝理解でき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判る＝判断でき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分かる＝区分できる，分別でき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６　連絡は相手がワカッテ始めて連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あなたが連絡することが連絡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相手の年齢能力経験は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連絡は生産性を左右す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聞いた聞かないで組織が混乱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混乱に時間もコストは発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混乱から感情まで混乱する＝人間関係が混乱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相手が理解できるまで実施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６　相談の受け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要件１　信頼される人にな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要件２　問題解決能力は皆が持ってい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コンガラカッテイル問題の整理・整頓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要件３　元気が問題を解決す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前向きになれば，ほぼ問題は解決す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Ⅴ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７　連絡 報告の内容とポイント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情報はなまもの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情報はなまものです。なまものは時間がたてば腐ります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情報も同様で，時間が経てば経つほど意味がなくなってきます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情報も迅速に報告・連絡すること。情報は早くが第一の要件です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情報をマメ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結果の情報も大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結果を生じせしめる過程</a:t>
            </a: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プロセス</a:t>
            </a: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はもっと大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66"/>
                </a:solidFill>
                <a:latin typeface="Century"/>
                <a:ea typeface="ＭＳ 明朝"/>
              </a:rPr>
              <a:t>プロセスをマメに報告が第二の要件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8381880" y="47242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7848720" y="47242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5400" spc="-1" strike="noStrike">
                <a:solidFill>
                  <a:srgbClr val="003366"/>
                </a:solidFill>
                <a:latin typeface="Century"/>
                <a:ea typeface="ＭＳ 明朝"/>
              </a:rPr>
              <a:t>　整理・整頓・清掃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2205000" cy="24382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1219320" y="4662360"/>
            <a:ext cx="59436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１　整理・整頓・清掃の意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生産性の向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・整頓・清掃は仕事の能率，生産性の向上のために重要な役割を果たす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事故を未然に防止す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‥‥‥捨て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頓‥‥‥並べ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清掃‥‥‥きれいに掃除す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２　整理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とは「いるもの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必要なもの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といらないものを分け，いらないものは即時処理すること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ムダなものを発生させな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一歩すすんで，いらないものを買わない，貰わな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管理するための手間がかか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貴重な地球資源が無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３　整頓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整頓とは「必要なときすぐ取り出せるように保存しておくこと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もっとも高いコストは人件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人件費は時間によって発生しま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探す時間をコストに換算すると膨大な金額にな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探す手間を惜しんで，在庫及び備品を二重に発注することも無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8153280" y="57913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7620120" y="579420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４ ５人の中の１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組織を改善する方法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５人の中で１人の仲間をつく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20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％の仲間をつく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４　清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清掃とは「きれいに掃除することであり，必要なもの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場所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をゴミなし，汚れなしにする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ゴミ，汚れの防止を工夫するこ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物を大切に活かして使う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きれいなトイレは汚したくな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きれいな職場は，清々しい気持ちで仕事ができ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環境を美化することによって，前向きにな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清掃は心を磨くこ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8458200" y="5791320"/>
            <a:ext cx="457200" cy="761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1760"/>
              <a:gd name="textAreaBottom" fmla="*/ 732240 h 761760"/>
            </a:gdLst>
            <a:ahLst/>
            <a:rect l="textAreaLeft" t="textAreaTop" r="textAreaRight" b="textAreaBottom"/>
            <a:pathLst>
              <a:path w="21600" h="35977">
                <a:moveTo>
                  <a:pt x="0" y="0"/>
                </a:moveTo>
                <a:lnTo>
                  <a:pt x="21600" y="0"/>
                </a:lnTo>
                <a:lnTo>
                  <a:pt x="21600" y="35977"/>
                </a:lnTo>
                <a:lnTo>
                  <a:pt x="0" y="35977"/>
                </a:lnTo>
                <a:close/>
              </a:path>
              <a:path fill="lightenLess" w="21600" h="35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77">
                <a:moveTo>
                  <a:pt x="21600" y="0"/>
                </a:moveTo>
                <a:lnTo>
                  <a:pt x="21600" y="35977"/>
                </a:lnTo>
                <a:lnTo>
                  <a:pt x="20200" y="34577"/>
                </a:lnTo>
                <a:lnTo>
                  <a:pt x="20200" y="1400"/>
                </a:lnTo>
                <a:close/>
              </a:path>
              <a:path fill="darkenLess" w="21600" h="35977">
                <a:moveTo>
                  <a:pt x="21600" y="35977"/>
                </a:moveTo>
                <a:lnTo>
                  <a:pt x="0" y="35977"/>
                </a:lnTo>
                <a:lnTo>
                  <a:pt x="1400" y="34577"/>
                </a:lnTo>
                <a:lnTo>
                  <a:pt x="20200" y="34577"/>
                </a:lnTo>
                <a:close/>
              </a:path>
              <a:path fill="lighten" w="21600" h="35977">
                <a:moveTo>
                  <a:pt x="0" y="35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77"/>
                </a:lnTo>
                <a:close/>
              </a:path>
              <a:path fill="darken" w="21600" h="35977">
                <a:moveTo>
                  <a:pt x="3794" y="10982"/>
                </a:moveTo>
                <a:lnTo>
                  <a:pt x="17806" y="17989"/>
                </a:lnTo>
                <a:lnTo>
                  <a:pt x="3794" y="24995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7924680" y="579420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５　時間・場所・心の費用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コスト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１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･整頓･清掃はコストダウンそのもの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は場所の有効活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頓は時間の有効活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清掃は心の生産性の向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いずれもコストを削減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新たなコストを発生させな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５　時間・場所・心の費用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コスト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すべて後始末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･整頓･清掃の徹底を邪魔するものは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“</a:t>
            </a:r>
            <a:r>
              <a:rPr b="0" i="1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やりっぱなし”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の気持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必ず</a:t>
            </a:r>
            <a:r>
              <a:rPr b="0" lang="ja-JP" sz="3200" spc="-1" strike="noStrike" u="sng">
                <a:solidFill>
                  <a:srgbClr val="003366"/>
                </a:solidFill>
                <a:uFillTx/>
                <a:latin typeface="Century"/>
                <a:ea typeface="ＭＳ 明朝"/>
              </a:rPr>
              <a:t>“モトに戻す”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という習慣を徹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もとに戻すは，整理･整頓･清掃を継続のコ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５　時間・場所・心の費用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コスト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トータルコスト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(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全ての費用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を考えるこ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今，楽をすれば，後が高くつ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今，頑張って整理･整頓･清掃を実施すれば，後が楽にな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やりっぱなしで放置すれば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あなたか，あなた以外のだれかが，今楽をした以上に苦労す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Century"/>
                <a:ea typeface="ＭＳ 明朝"/>
              </a:rPr>
              <a:t>未来のあなたとあなた以外のだれかに迷惑をかけないために，整理･整頓･清掃を徹底的に実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8381880" y="365760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previousslide"/>
          </p:cNvPr>
          <p:cNvSpPr/>
          <p:nvPr/>
        </p:nvSpPr>
        <p:spPr>
          <a:xfrm>
            <a:off x="7848720" y="365760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６　実践の方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3366"/>
                </a:solidFill>
                <a:uFillTx/>
                <a:latin typeface="Century"/>
                <a:ea typeface="ＭＳ 明朝"/>
              </a:rPr>
              <a:t>“</a:t>
            </a:r>
            <a:r>
              <a:rPr b="0" lang="ja-JP" sz="3200" spc="-1" strike="noStrike" u="sng">
                <a:solidFill>
                  <a:srgbClr val="003366"/>
                </a:solidFill>
                <a:uFillTx/>
                <a:latin typeface="Century"/>
                <a:ea typeface="ＭＳ 明朝"/>
              </a:rPr>
              <a:t>モトに戻す”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。この習慣を徹底すれば整理･整頓･清掃ができます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3366"/>
                </a:solidFill>
                <a:uFillTx/>
                <a:latin typeface="Century"/>
                <a:ea typeface="ＭＳ 明朝"/>
              </a:rPr>
              <a:t>“</a:t>
            </a:r>
            <a:r>
              <a:rPr b="0" lang="ja-JP" sz="3200" spc="-1" strike="noStrike" u="sng">
                <a:solidFill>
                  <a:srgbClr val="003366"/>
                </a:solidFill>
                <a:uFillTx/>
                <a:latin typeface="Century"/>
                <a:ea typeface="ＭＳ 明朝"/>
              </a:rPr>
              <a:t>システム（箱，棚）を作る”</a:t>
            </a: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。もとに戻す場所，方法もつくってあげる必要があ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Ⅵ</a:t>
            </a:r>
            <a:r>
              <a:rPr b="0" lang="ja-JP" sz="4400" spc="-1" strike="noStrike">
                <a:solidFill>
                  <a:srgbClr val="003366"/>
                </a:solidFill>
                <a:latin typeface="Century"/>
                <a:ea typeface="ＭＳ 明朝"/>
              </a:rPr>
              <a:t>－７　基準創造行動と　　　　　　　５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理‥‥‥捨て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整頓‥‥‥並べ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清掃‥‥‥きれいに掃除す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清潔‥‥‥汚れがなくきれいなこと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Century"/>
                <a:ea typeface="ＭＳ 明朝"/>
              </a:rPr>
              <a:t>躾‥‥‥「基準創造行動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>
            <a:hlinkClick r:id="" action="ppaction://hlinkshowjump?jump=previousslide"/>
          </p:cNvPr>
          <p:cNvSpPr/>
          <p:nvPr/>
        </p:nvSpPr>
        <p:spPr>
          <a:xfrm>
            <a:off x="731520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５ 組織の構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未来を先取りする２０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大勢に流される６０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いつも文句を言う２０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２：６：２の原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６ 組織の活性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５人のなかの１を作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５人の中の１人にな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自分の心も同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前向きな心の２０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どちらでもいいや６０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怠けたい２０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７ 改善の３原則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上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(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上司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,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親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)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が変われば下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(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部下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,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子供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)</a:t>
            </a: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が変わ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自分が変われば相手が変わ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家庭が変われば職場が変わ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Ⅰ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-</a:t>
            </a:r>
            <a:r>
              <a:rPr b="0" lang="ja-JP" sz="44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８ 家庭環境の大切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社会貢献の基礎は家庭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基礎となる家庭から基準行動を実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66"/>
                </a:solidFill>
                <a:latin typeface="Times New Roman"/>
                <a:ea typeface="ＭＳ 明朝"/>
              </a:rPr>
              <a:t>良い家庭があれば良い職場は当たり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7848720" y="5410080"/>
            <a:ext cx="457200" cy="7621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35994">
                <a:moveTo>
                  <a:pt x="0" y="0"/>
                </a:moveTo>
                <a:lnTo>
                  <a:pt x="21600" y="0"/>
                </a:lnTo>
                <a:lnTo>
                  <a:pt x="21600" y="35994"/>
                </a:lnTo>
                <a:lnTo>
                  <a:pt x="0" y="35994"/>
                </a:lnTo>
                <a:close/>
              </a:path>
              <a:path fill="lightenLess" w="21600" h="3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4">
                <a:moveTo>
                  <a:pt x="21600" y="0"/>
                </a:moveTo>
                <a:lnTo>
                  <a:pt x="21600" y="35994"/>
                </a:lnTo>
                <a:lnTo>
                  <a:pt x="20200" y="34594"/>
                </a:lnTo>
                <a:lnTo>
                  <a:pt x="20200" y="1400"/>
                </a:lnTo>
                <a:close/>
              </a:path>
              <a:path fill="darkenLess" w="21600" h="35994">
                <a:moveTo>
                  <a:pt x="21600" y="35994"/>
                </a:moveTo>
                <a:lnTo>
                  <a:pt x="0" y="35994"/>
                </a:lnTo>
                <a:lnTo>
                  <a:pt x="1400" y="34594"/>
                </a:lnTo>
                <a:lnTo>
                  <a:pt x="20200" y="34594"/>
                </a:lnTo>
                <a:close/>
              </a:path>
              <a:path fill="lighten" w="21600" h="35994">
                <a:moveTo>
                  <a:pt x="0" y="3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4"/>
                </a:lnTo>
                <a:close/>
              </a:path>
              <a:path fill="darken" w="21600" h="35994">
                <a:moveTo>
                  <a:pt x="3794" y="10991"/>
                </a:moveTo>
                <a:lnTo>
                  <a:pt x="17806" y="17997"/>
                </a:lnTo>
                <a:lnTo>
                  <a:pt x="3794" y="25004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7238880" y="5410080"/>
            <a:ext cx="457200" cy="7588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758880"/>
              <a:gd name="textAreaBottom" fmla="*/ 729360 h 758880"/>
            </a:gdLst>
            <a:ahLst/>
            <a:rect l="textAreaLeft" t="textAreaTop" r="textAreaRight" b="textAreaBottom"/>
            <a:pathLst>
              <a:path w="21600" h="35841">
                <a:moveTo>
                  <a:pt x="0" y="0"/>
                </a:moveTo>
                <a:lnTo>
                  <a:pt x="21600" y="0"/>
                </a:lnTo>
                <a:lnTo>
                  <a:pt x="21600" y="35841"/>
                </a:lnTo>
                <a:lnTo>
                  <a:pt x="0" y="35841"/>
                </a:lnTo>
                <a:close/>
              </a:path>
              <a:path fill="lightenLess" w="21600" h="358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841">
                <a:moveTo>
                  <a:pt x="21600" y="0"/>
                </a:moveTo>
                <a:lnTo>
                  <a:pt x="21600" y="35841"/>
                </a:lnTo>
                <a:lnTo>
                  <a:pt x="20200" y="34441"/>
                </a:lnTo>
                <a:lnTo>
                  <a:pt x="20200" y="1400"/>
                </a:lnTo>
                <a:close/>
              </a:path>
              <a:path fill="darkenLess" w="21600" h="35841">
                <a:moveTo>
                  <a:pt x="21600" y="35841"/>
                </a:moveTo>
                <a:lnTo>
                  <a:pt x="0" y="35841"/>
                </a:lnTo>
                <a:lnTo>
                  <a:pt x="1400" y="34441"/>
                </a:lnTo>
                <a:lnTo>
                  <a:pt x="20200" y="34441"/>
                </a:lnTo>
                <a:close/>
              </a:path>
              <a:path fill="lighten" w="21600" h="35841">
                <a:moveTo>
                  <a:pt x="0" y="358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441"/>
                </a:lnTo>
                <a:close/>
              </a:path>
              <a:path fill="darken" w="21600" h="35841">
                <a:moveTo>
                  <a:pt x="3794" y="17921"/>
                </a:moveTo>
                <a:lnTo>
                  <a:pt x="17806" y="10914"/>
                </a:lnTo>
                <a:lnTo>
                  <a:pt x="17806" y="24927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2:01:58Z</dcterms:created>
  <dc:creator>西野　光則</dc:creator>
  <dc:description/>
  <dc:language>en-US</dc:language>
  <cp:lastModifiedBy>西野　光則</cp:lastModifiedBy>
  <dcterms:modified xsi:type="dcterms:W3CDTF">2004-12-28T02:20:09Z</dcterms:modified>
  <cp:revision>16</cp:revision>
  <dc:subject/>
  <dc:title>Ⅰ．自己開発の原点</dc:title>
</cp:coreProperties>
</file>